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pplause.wav" ContentType="audio/x-wav"/>
  <Override PartName="/ppt/media/arrow.wav" ContentType="audio/x-wav"/>
  <Override PartName="/ppt/media/click.wav" ContentType="audio/x-wav"/>
  <Override PartName="/ppt/media/whoosh.wav" ContentType="audio/x-wav"/>
  <Override PartName="/ppt/media/suction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BF04-5FFB-4CDE-B461-9110F5167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E150-A5D0-4A33-AC11-FCED26D0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0434-C0E5-4715-BDA0-B6A6070E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4B32-03B8-4B03-9DDF-5B52DF06C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A688-82D1-4183-BC4B-E834361B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CB03-2CB2-4338-82B9-1051EE0B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8671-E2A5-4CC3-925B-DEB1C3AB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B714-3038-49B6-B02B-0702693E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9818-F8D3-48F8-865B-80895EB5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85F8-297F-4815-9165-EFE44FE2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7BC1-76D9-43D7-A713-7A2F9719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95C4-C9AF-47C3-85FF-1E78DFB9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7EC8-00C6-47EC-8F84-7972830F5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om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Grade Gramm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 rot="20467200">
            <a:off x="838080" y="456840"/>
            <a:ext cx="243864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seri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5"/>
          <p:cNvSpPr txBox="1"/>
          <p:nvPr/>
        </p:nvSpPr>
        <p:spPr>
          <a:xfrm rot="1286400">
            <a:off x="5943600" y="685440"/>
            <a:ext cx="1990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at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WordArt 6"/>
          <p:cNvSpPr txBox="1"/>
          <p:nvPr/>
        </p:nvSpPr>
        <p:spPr>
          <a:xfrm rot="20970600">
            <a:off x="380880" y="5562720"/>
            <a:ext cx="339120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riendly let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6" name="WordArt 7"/>
          <p:cNvSpPr txBox="1"/>
          <p:nvPr/>
        </p:nvSpPr>
        <p:spPr>
          <a:xfrm rot="1074600">
            <a:off x="5943240" y="5638680"/>
            <a:ext cx="2579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520402"/>
                    </a:gs>
                  </a:gsLst>
                  <a:lin ang="14046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ity and stat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520402"/>
                  </a:gs>
                </a:gsLst>
                <a:lin ang="14046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to Use a Com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several places we should use a comma in second gr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comma to separate words in a se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comma to separate a city and a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comma to separate the day and year in a 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comma after the greeting and closing in a friendly le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as in a 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have three or more words in a series, use a comma to separate the items.  These can be nouns, verbs, or ad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need 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milk, bread, and but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the st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se cookies are </a:t>
            </a:r>
            <a:r>
              <a:rPr b="1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delicious, delightful, and delec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you help me </a:t>
            </a:r>
            <a:r>
              <a:rPr b="1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wash the dishes, dust the furniture, and vacuum the living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ies and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comma to separate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the c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he 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Medina</a:t>
            </a:r>
            <a:r>
              <a:rPr b="1" lang="en-US" sz="3200" spc="-1" strike="noStrike" u="sng">
                <a:solidFill>
                  <a:srgbClr val="00ff00"/>
                </a:solidFill>
                <a:uFillTx/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ennes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Orlando</a:t>
            </a:r>
            <a:r>
              <a:rPr b="1" lang="en-US" sz="3200" spc="-1" strike="noStrike" u="sng">
                <a:solidFill>
                  <a:srgbClr val="00ff00"/>
                </a:solidFill>
                <a:uFillTx/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lor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Honolulu</a:t>
            </a:r>
            <a:r>
              <a:rPr b="1" lang="en-US" sz="3200" spc="-1" strike="noStrike" u="sng">
                <a:solidFill>
                  <a:srgbClr val="00ff00"/>
                </a:solidFill>
                <a:uFillTx/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Hawa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Los Angeles</a:t>
            </a:r>
            <a:r>
              <a:rPr b="1" lang="en-US" sz="3200" spc="-1" strike="noStrike" u="sng">
                <a:solidFill>
                  <a:srgbClr val="00ff00"/>
                </a:solidFill>
                <a:uFillTx/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alifor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as in a 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comma to separate the day and the year in a d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9</a:t>
            </a:r>
            <a:r>
              <a:rPr b="1" lang="en-US" sz="3200" spc="-1" strike="noStrike" u="sng">
                <a:solidFill>
                  <a:srgbClr val="00ff00"/>
                </a:solidFill>
                <a:uFillTx/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9</a:t>
            </a:r>
            <a:r>
              <a:rPr b="1" lang="en-US" sz="3200" spc="-1" strike="noStrike" u="sng">
                <a:solidFill>
                  <a:srgbClr val="00ff00"/>
                </a:solidFill>
                <a:uFillTx/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11</a:t>
            </a:r>
            <a:r>
              <a:rPr b="1" lang="en-US" sz="3200" spc="-1" strike="noStrike" u="sng">
                <a:solidFill>
                  <a:srgbClr val="00ff00"/>
                </a:solidFill>
                <a:uFillTx/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9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as in a Friendly Le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a should follow the gre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r Mr. Hays</a:t>
            </a:r>
            <a:r>
              <a:rPr b="1" lang="en-US" sz="3200" spc="-1" strike="noStrike" u="sng">
                <a:solidFill>
                  <a:srgbClr val="00ff00"/>
                </a:solidFill>
                <a:uFillTx/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the closing of a letter with a com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 friend</a:t>
            </a:r>
            <a:r>
              <a:rPr b="1" lang="en-US" sz="3200" spc="-1" strike="noStrike" u="sng">
                <a:solidFill>
                  <a:srgbClr val="00ff00"/>
                </a:solidFill>
                <a:uFillTx/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ve</a:t>
            </a:r>
            <a:r>
              <a:rPr b="1" lang="en-US" sz="3200" spc="-1" strike="noStrike" u="sng">
                <a:solidFill>
                  <a:srgbClr val="00ff00"/>
                </a:solidFill>
                <a:uFillTx/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 flipH="1">
            <a:off x="3505320" y="2514600"/>
            <a:ext cx="2133360" cy="763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 flipH="1">
            <a:off x="2895120" y="4876920"/>
            <a:ext cx="2133720" cy="7596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 flipH="1">
            <a:off x="1676520" y="5486400"/>
            <a:ext cx="2133360" cy="763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0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8:18:38Z</dcterms:created>
  <dc:creator> </dc:creator>
  <dc:description/>
  <dc:language>en-US</dc:language>
  <cp:lastModifiedBy>teacher</cp:lastModifiedBy>
  <dcterms:modified xsi:type="dcterms:W3CDTF">2011-03-05T09:23:50Z</dcterms:modified>
  <cp:revision>3</cp:revision>
  <dc:subject/>
  <dc:title>Using Commas</dc:title>
</cp:coreProperties>
</file>